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FBE-9F85-4282-8478-F5F6C93B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B12-7801-4833-A794-89BC4A02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D30-96BD-4AF3-BCA9-953B4543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D63-B022-4534-8422-E66DA47E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4122-1702-4DB0-91F3-26019247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A88D-E11D-4645-862E-892D221C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6B5F-1499-4860-A448-08CF84BD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4083-B57C-4094-976D-5FE18D6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EDF3-482A-4EA3-A505-3892909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3613-5835-4E27-82BA-FBA8F5FB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E591-F841-48F3-8B67-7CC18FE3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4D4-BBBA-43FB-824A-BC02C0CA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0281-4023-4A10-BFC7-F9E7A1F3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BDE9-B3D5-4C0E-9B23-4DA1FF71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37C3-7855-4E88-82BF-0FCA6058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BFD7-C3D5-4B96-B568-65510A87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6C94-88C7-4610-8AF5-BCA5D7BA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035-123D-4775-BD3F-B1FC8A4B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794-C0C4-4466-A210-A37C7D71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33B-D42C-4E9F-8E65-74F286BF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7F5-3E5A-4432-9FD4-BE448F87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D81-152E-45C8-A9A7-CD7673B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E26-F5C1-431E-A3F1-C6725FF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3CB-EA5E-4E2D-AA55-F821244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98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6480" y="6689520"/>
            <a:ext cx="24130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606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16C6-8764-486A-8F6A-870C810B97C1}" type="slidenum">
              <a:rPr b="0" lang="en-US" sz="900" spc="-1" strike="noStrike">
                <a:solidFill>
                  <a:srgbClr val="333333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7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89F8-09B7-4BDB-B8B2-C6636B405E54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333333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333333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mailto:schapman@greet.bham.sch.uk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bc.co.uk/northernireland/schools/4_11/uptoyou/" TargetMode="External"/><Relationship Id="rId3" Type="http://schemas.openxmlformats.org/officeDocument/2006/relationships/hyperlink" Target="http://www.lifebytes.gov.uk/teachers/lb_teachers-eat.htm" TargetMode="External"/><Relationship Id="rId4" Type="http://schemas.openxmlformats.org/officeDocument/2006/relationships/hyperlink" Target="http://www.eatwell.gov.uk/foodlabels/" TargetMode="External"/><Relationship Id="rId5" Type="http://schemas.openxmlformats.org/officeDocument/2006/relationships/hyperlink" Target="http://www.eatwell.gov.uk/foodlabels/" TargetMode="External"/><Relationship Id="rId6" Type="http://schemas.openxmlformats.org/officeDocument/2006/relationships/hyperlink" Target="http://www.eatwell.gov.uk/foodlabels/" TargetMode="External"/><Relationship Id="rId7" Type="http://schemas.openxmlformats.org/officeDocument/2006/relationships/image" Target="../media/image3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5.gif"/><Relationship Id="rId4" Type="http://schemas.openxmlformats.org/officeDocument/2006/relationships/slide" Target="slide10.xml"/><Relationship Id="rId5" Type="http://schemas.openxmlformats.org/officeDocument/2006/relationships/image" Target="../media/image6.gif"/><Relationship Id="rId6" Type="http://schemas.openxmlformats.org/officeDocument/2006/relationships/slide" Target="slide12.xml"/><Relationship Id="rId7" Type="http://schemas.openxmlformats.org/officeDocument/2006/relationships/image" Target="../media/image7.gif"/><Relationship Id="rId8" Type="http://schemas.openxmlformats.org/officeDocument/2006/relationships/slide" Target="slide13.xml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920" y="16761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ers part of Scien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Unit 5a: 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Keeping Health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80920" y="99072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ating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241880" cy="5059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4724280"/>
            <a:ext cx="480060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Mrs. Chapm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eet School, Birming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ains and Puls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371600"/>
            <a:ext cx="4876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is food group includes wheat, corn, barley, rice, lentils, bea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se are all from plants and form a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staple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part of th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die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for people all over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ains and pulse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uts are another source of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4120" y="1676520"/>
            <a:ext cx="3047760" cy="2971440"/>
            <a:chOff x="5334120" y="1676520"/>
            <a:chExt cx="3047760" cy="2971440"/>
          </a:xfrm>
        </p:grpSpPr>
        <p:sp>
          <p:nvSpPr>
            <p:cNvPr id="148" name=""/>
            <p:cNvSpPr/>
            <p:nvPr/>
          </p:nvSpPr>
          <p:spPr>
            <a:xfrm>
              <a:off x="5334120" y="1676520"/>
              <a:ext cx="2971440" cy="29714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4120" y="2126520"/>
              <a:ext cx="304776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What is..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assoon Primary"/>
                </a:rPr>
                <a:t>Rice is the staple food in China and much of the East.  What is it in the West (UK, USA)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ains and Puls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371600"/>
            <a:ext cx="4876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is food group includes wheat, corn, barley, rice, lentils, bea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se are all from plants and form a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staple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part of th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die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for people all over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ains and pulse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uts are another source of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4120" y="1676520"/>
            <a:ext cx="3047760" cy="2971440"/>
            <a:chOff x="5334120" y="1676520"/>
            <a:chExt cx="3047760" cy="2971440"/>
          </a:xfrm>
        </p:grpSpPr>
        <p:sp>
          <p:nvSpPr>
            <p:cNvPr id="155" name=""/>
            <p:cNvSpPr/>
            <p:nvPr/>
          </p:nvSpPr>
          <p:spPr>
            <a:xfrm>
              <a:off x="5334120" y="1676520"/>
              <a:ext cx="2971440" cy="29714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2126520"/>
              <a:ext cx="304776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Answ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assoon Primary"/>
                </a:rPr>
                <a:t>Wheat.</a:t>
              </a:r>
              <a:r>
                <a:rPr b="1" lang="en-US" sz="2000" spc="-1" strike="noStrike">
                  <a:solidFill>
                    <a:srgbClr val="ffffff"/>
                  </a:solidFill>
                  <a:latin typeface="Sassoon Primary"/>
                </a:rPr>
                <a:t>  We eat it in bread, pasta, cereals, cakes, biscuits and it’s added to all sorts of food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iry Produc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19320"/>
            <a:ext cx="73915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airy foods are made from milk (usually cow’s milk, but can be from other animals like goats or sheep). Dairy food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fat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  They are also a good source of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calcium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which is good for bones and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se food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heese (hard, soft, cottag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Yogu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ood high in milk or milk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86400" y="3048120"/>
            <a:ext cx="2362320" cy="2612520"/>
            <a:chOff x="5486400" y="3048120"/>
            <a:chExt cx="2362320" cy="2612520"/>
          </a:xfrm>
        </p:grpSpPr>
        <p:sp>
          <p:nvSpPr>
            <p:cNvPr id="162" name=""/>
            <p:cNvSpPr/>
            <p:nvPr/>
          </p:nvSpPr>
          <p:spPr>
            <a:xfrm>
              <a:off x="5486400" y="3048120"/>
              <a:ext cx="2302920" cy="2286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400" y="3394080"/>
              <a:ext cx="2362320" cy="22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Weird fa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Sassoon Primary"/>
                </a:rPr>
                <a:t>Our brains are 80% fa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t, Fish and Eg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219320"/>
            <a:ext cx="73915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main nutrients derived from meat ar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, but it also gives us fats and some min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meat and fish group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hicken and all poul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ish and shellfis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eef, pork and la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ggs are included in this group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thletes eat lots of protein; they help to buil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muscle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867280" y="2209680"/>
            <a:ext cx="3048120" cy="2742840"/>
            <a:chOff x="5867280" y="2209680"/>
            <a:chExt cx="3048120" cy="2742840"/>
          </a:xfrm>
        </p:grpSpPr>
        <p:sp>
          <p:nvSpPr>
            <p:cNvPr id="169" name=""/>
            <p:cNvSpPr/>
            <p:nvPr/>
          </p:nvSpPr>
          <p:spPr>
            <a:xfrm>
              <a:off x="5867280" y="2209680"/>
              <a:ext cx="2971800" cy="27428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7280" y="2625120"/>
              <a:ext cx="304812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Foodie fa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Sushi (raw fish) is now Marks and Spencer’s best-selling lunchtime</a:t>
              </a:r>
              <a:r>
                <a:rPr b="0" lang="en-GB" sz="2000" spc="-1" strike="noStrike">
                  <a:solidFill>
                    <a:srgbClr val="ffffff"/>
                  </a:solidFill>
                  <a:latin typeface="Sassoon Primary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sna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rches, Sugars and Fat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219320"/>
            <a:ext cx="84582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Sometimes foods are classified into starches, sugars and fats.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  Starche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includes foods like potatoes and provide mainly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carbohydrate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.  Carbohydrates give us the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energy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to carry on with our day-to-day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Foods high in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sugar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include those naturally occurring as in fruit, and those containing refined/processed sugars such as sweets, chocolates, cakes etc.  We need to limit our intake of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refined sugar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– these are empty calories which give an immediate ‘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boost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A small amount of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fat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is important for health, but eating too much fat is unhealthy.  It leads to clogged arteries (restricted blood supply), high cholesterol and becoming overweigh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tamins and Mineral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4920" y="12193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ur bodies need all sorts of chemicals (vitamins and minerals) to be healthy.  The most common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2057400"/>
          <a:ext cx="4876920" cy="377676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lps maintain eyes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Sweet potatoes, carro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lp body make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Green leafy vege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aling skin, preventing c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Citrus fruit, tomat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Strengthen b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Mi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Sun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lps strengthen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egetable oils, n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althy bl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Green leafy vege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ading the Labels on Food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91628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1219320"/>
            <a:ext cx="56386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ood labelling is confusing.  The front of packaging often tells a different story to th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roducts that claim to b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Low in fa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on the front, may be loaded with sugar, and sometimes, products saying things like ‘Less than 5% fat’ have more fat tha similar produc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0080"/>
                </a:solidFill>
                <a:latin typeface="Arial Black"/>
              </a:rPr>
              <a:t>Look at example food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19920" y="1219320"/>
            <a:ext cx="2895480" cy="3139560"/>
            <a:chOff x="6019920" y="1219320"/>
            <a:chExt cx="2895480" cy="3139560"/>
          </a:xfrm>
        </p:grpSpPr>
        <p:sp>
          <p:nvSpPr>
            <p:cNvPr id="186" name=""/>
            <p:cNvSpPr/>
            <p:nvPr/>
          </p:nvSpPr>
          <p:spPr>
            <a:xfrm>
              <a:off x="6019920" y="1219320"/>
              <a:ext cx="2822760" cy="31395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1694880"/>
              <a:ext cx="289548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Food lab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You cannot trust the front of the pack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you need to read the back</a:t>
              </a:r>
              <a:r>
                <a:rPr b="1" lang="en-GB" sz="1800" spc="-1" strike="noStrike">
                  <a:solidFill>
                    <a:srgbClr val="ffffff"/>
                  </a:solidFill>
                  <a:latin typeface="Sassoon Primary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1295280"/>
            <a:ext cx="5410440" cy="2743200"/>
          </a:xfrm>
          <a:prstGeom prst="wedgeEllipseCallout">
            <a:avLst>
              <a:gd name="adj1" fmla="val 52902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It doesn’t matter what I eat as long as I do lots of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9480" y="1295280"/>
            <a:ext cx="5410440" cy="2743200"/>
          </a:xfrm>
          <a:prstGeom prst="wedgeEllipseCallout">
            <a:avLst>
              <a:gd name="adj1" fmla="val 52902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It doesn’t matter what I eat as long as I do lots of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581280"/>
            <a:ext cx="4495680" cy="2653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ong!  Exercise is good for you, but it still matters what you eat.  Eating the right foods means we can learn better and exercise better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09680" y="2057400"/>
            <a:ext cx="3810240" cy="1981080"/>
          </a:xfrm>
          <a:prstGeom prst="wedgeEllipseCallout">
            <a:avLst>
              <a:gd name="adj1" fmla="val 54125"/>
              <a:gd name="adj2" fmla="val 37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ocolate is ba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A Healthy Diet and Our Body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Healthy Eating Pyramid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The Main Food Group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Fruit and Vegetable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Grains and Pulse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7" action="ppaction://hlinksldjump"/>
              </a:rPr>
              <a:t>Dairy Product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8" action="ppaction://hlinksldjump"/>
              </a:rPr>
              <a:t>Starches, Sugars and Fats 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9" action="ppaction://hlinksldjump"/>
              </a:rPr>
              <a:t>Vitamins and Minerals 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10" action="ppaction://hlinksldjump"/>
              </a:rPr>
              <a:t>Reading the Labels on Foods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Black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 Black"/>
              </a:rPr>
              <a:t>Healthy Eating Myths</a:t>
            </a:r>
            <a:r>
              <a:rPr b="0" lang="en-GB" sz="2000" spc="-1" strike="noStrike">
                <a:solidFill>
                  <a:srgbClr val="3333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 Black"/>
              </a:rPr>
              <a:t>Links for further study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6858000" y="304920"/>
            <a:ext cx="196056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09680" y="2057400"/>
            <a:ext cx="3810240" cy="1981080"/>
          </a:xfrm>
          <a:prstGeom prst="wedgeEllipseCallout">
            <a:avLst>
              <a:gd name="adj1" fmla="val 54125"/>
              <a:gd name="adj2" fmla="val 37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ocolate is ba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581280"/>
            <a:ext cx="4495680" cy="2654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’s true that chocolate isn’t the healthiest snack – but it isn’t innately bad either!  So, some chocolate can be part of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et.  Plain (dark) chocolate is better for you thank milk; it is higher in i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295280"/>
            <a:ext cx="5562720" cy="2743200"/>
          </a:xfrm>
          <a:prstGeom prst="wedgeEllipseCallout">
            <a:avLst>
              <a:gd name="adj1" fmla="val 52824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ewing and digesting a stick of celery uses up more energy than you get from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7200" y="1295280"/>
            <a:ext cx="5562720" cy="2743200"/>
          </a:xfrm>
          <a:prstGeom prst="wedgeEllipseCallout">
            <a:avLst>
              <a:gd name="adj1" fmla="val 52824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ewing and digesting a stick of celery uses up more energy than you get from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733920"/>
            <a:ext cx="4495680" cy="155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sounds good, but unfortunately it isn’t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nks for further stu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219320"/>
            <a:ext cx="8610480" cy="69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bc.co.uk/northernireland/schools/4_11/uptoyo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ifebytes.gov.uk/teachers/lb_teachers-ea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lthy eating and wired for health sites by the government – links to appropriate a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iredforhealth.gov.uk/cat.php?catid=886&amp;docid=7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od Standards Agency, 5 a day the Bash Street Way aimed at 7-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ood.gov.uk/interactivetools/educational/bashstreetdi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eatwell.gov.uk/foodlabels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kidshealth.org/kid/stay_healthy/food/vitam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dole5aday.com/MusicAndPlay/M_Games.jsp?topmenu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lash game ‘identify the fruit’, interactive, suitable whiteboard, aimed at year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lllo.org/yeartwo/jan17th/vivian/frui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934320" y="4419720"/>
            <a:ext cx="1877760" cy="2239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Healthy Diet and Our Bo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If our bodies are human machines 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food is our fuel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.   How well we eat, affects how well our bodies work, and how long we live.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It is especially important that we eat heathily as children, as we are still 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growing and developing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; a young plant not given proper nutrients grows up to be a poor specimen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A healthy diet is sometimes called a 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balanced diet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 as it needs to consist of </a:t>
            </a:r>
            <a:r>
              <a:rPr b="0" i="1" lang="en-US" sz="2000" spc="-1" strike="noStrike">
                <a:solidFill>
                  <a:srgbClr val="333333"/>
                </a:solidFill>
                <a:latin typeface="Arial Black"/>
              </a:rPr>
              <a:t>different 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types of foods.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Eating properly and regularly is really important; what we eat and drink now, affects our health in the future. 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60560" cy="2338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72200" y="3048120"/>
            <a:ext cx="2743200" cy="2818800"/>
            <a:chOff x="6172200" y="3048120"/>
            <a:chExt cx="2743200" cy="2818800"/>
          </a:xfrm>
        </p:grpSpPr>
        <p:sp>
          <p:nvSpPr>
            <p:cNvPr id="94" name=""/>
            <p:cNvSpPr/>
            <p:nvPr/>
          </p:nvSpPr>
          <p:spPr>
            <a:xfrm>
              <a:off x="6172200" y="3048120"/>
              <a:ext cx="2674440" cy="28188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72200" y="3475080"/>
              <a:ext cx="2743200" cy="20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Foodie fa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assoon Primary"/>
                </a:rPr>
                <a:t>Children that eat breakfast get better scores in tests than children that don’t</a:t>
              </a:r>
              <a:r>
                <a:rPr b="0" lang="en-US" sz="2000" spc="-1" strike="noStrike">
                  <a:solidFill>
                    <a:srgbClr val="ffffff"/>
                  </a:solidFill>
                  <a:latin typeface="Sassoon Primary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6200" y="41148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733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Fruit and vegetables: take 5 portions a day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4114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733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uit and vegetables: take 5 portions a day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2743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Meat, fish and dairy: take something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352680" y="29718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886200" y="4114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733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uit and vegetables: take 5 portions a day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743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t, fish and dairy: take something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971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1660680"/>
            <a:ext cx="34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Foods high in fats and sugars: take only small amounts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95120" y="2133720"/>
            <a:ext cx="12193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ain Food Group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3372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1480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09680" y="3352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3352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6705720" y="4952880"/>
            <a:ext cx="213336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6248520"/>
            <a:ext cx="5943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1" action="ppaction://hlinksldjump"/>
          </p:cNvPr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uit and Vegetabl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371600"/>
            <a:ext cx="480060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ruits and vegetables grow on plants: underground, on the ground or in tre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very day we should eat at least </a:t>
            </a:r>
            <a:r>
              <a:rPr b="0" lang="en-GB" sz="2800" spc="-1" strike="noStrike">
                <a:solidFill>
                  <a:srgbClr val="99cc00"/>
                </a:solidFill>
                <a:latin typeface="Arial Black"/>
              </a:rPr>
              <a:t>5 portion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of fruit and vegetables.  (A  portion is about a handfu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ruit and vegetable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fibre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vitamins and mineral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638680" y="1676520"/>
            <a:ext cx="2743200" cy="2818800"/>
            <a:chOff x="5638680" y="1676520"/>
            <a:chExt cx="2743200" cy="2818800"/>
          </a:xfrm>
        </p:grpSpPr>
        <p:sp>
          <p:nvSpPr>
            <p:cNvPr id="141" name=""/>
            <p:cNvSpPr/>
            <p:nvPr/>
          </p:nvSpPr>
          <p:spPr>
            <a:xfrm>
              <a:off x="5638680" y="1676520"/>
              <a:ext cx="2674440" cy="28188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8680" y="2103480"/>
              <a:ext cx="27432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Gill Sans Ultra Bold"/>
                </a:rPr>
                <a:t>T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Gill Sans Ultra Bold"/>
                </a:rPr>
                <a:t>5 a d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Gill Sans Ultra Bold"/>
                </a:rPr>
                <a:t>everyday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2:24:52Z</dcterms:created>
  <dc:creator>Susan</dc:creator>
  <dc:description/>
  <dc:language>en-US</dc:language>
  <cp:lastModifiedBy>Pitchford</cp:lastModifiedBy>
  <dcterms:modified xsi:type="dcterms:W3CDTF">2006-02-07T10:45:01Z</dcterms:modified>
  <cp:revision>110</cp:revision>
  <dc:subject/>
  <dc:title>Balanced Diet</dc:title>
</cp:coreProperties>
</file>